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29528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3694320"/>
            <a:ext cx="231624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369432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295280"/>
            <a:ext cx="35107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3694320"/>
            <a:ext cx="7194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" Target="slide27.xml"/><Relationship Id="rId11" Type="http://schemas.openxmlformats.org/officeDocument/2006/relationships/slide" Target="slide45.xml"/><Relationship Id="rId12" Type="http://schemas.openxmlformats.org/officeDocument/2006/relationships/slide" Target="slide45.xml"/><Relationship Id="rId13" Type="http://schemas.openxmlformats.org/officeDocument/2006/relationships/slide" Target="slide45.xml"/><Relationship Id="rId14" Type="http://schemas.openxmlformats.org/officeDocument/2006/relationships/slide" Target="slide51.xml"/><Relationship Id="rId15" Type="http://schemas.openxmlformats.org/officeDocument/2006/relationships/slide" Target="slide51.xml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1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51.xm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磁盘工具与系统维护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1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2" action="ppaction://hlinksldjump"/>
              </a:rPr>
              <a:t>硬盘分区管理工具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artitionMagic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8.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5" action="ppaction://hlinksldjump"/>
              </a:rPr>
              <a:t>1.2  硬盘备份工具——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6" action="ppaction://hlinksldjump"/>
              </a:rPr>
              <a:t>Norton Ghos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7" action="ppaction://hlinksldjump"/>
              </a:rPr>
              <a:t>1.3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8" action="ppaction://hlinksldjump"/>
              </a:rPr>
              <a:t>磁盘备份工具——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9" action="ppaction://hlinksldjump"/>
              </a:rPr>
              <a:t>WinRescue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 2000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1" action="ppaction://hlinksldjump"/>
              </a:rPr>
              <a:t>1.4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磁盘碎片整理工具——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3" action="ppaction://hlinksldjump"/>
              </a:rPr>
              <a:t>VoptXP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1.5  Windows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5" action="ppaction://hlinksldjump"/>
              </a:rPr>
              <a:t>优化大师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1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调整分区大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499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“选择一个任务”窗口单击“调整一个分区的容量”按钮，打开“调整分区的容量”对话框，单击“下一步”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7~1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2909880" y="2295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M磁盘工具7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4343400" cy="2962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71440" y="2133720"/>
            <a:ext cx="91188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分区的容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909880" y="2295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M磁盘工具8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4938840" cy="336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5181480"/>
            <a:ext cx="518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释放空间给哪一个分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6244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M磁盘工具9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86280" cy="3340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19320" y="5334120"/>
            <a:ext cx="662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调整分区后的磁盘分区状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1.4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合并硬盘分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0480" y="1143000"/>
            <a:ext cx="7194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“选择一个任务”窗口单击“合并分区”按钮，打开“合并分区”对话框，单击“下一步”打开类似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对话框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该对话框中选择需要合并的第一个分区，单击“下一步”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0~1-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对话框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2909880" y="2295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M磁盘工具1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238640" cy="2890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27000" y="2819520"/>
            <a:ext cx="9118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被合并的分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81360" y="2209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M磁盘工具13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067360" cy="3449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105520"/>
            <a:ext cx="640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合并的分区被命名为一个文件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1360" y="2209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M磁盘工具15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143680" cy="3502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51814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分区注意事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81360" y="2209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M磁盘工具1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38760" cy="329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7920" y="5334120"/>
            <a:ext cx="624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合并分区后的磁盘分区状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1.5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转换分区格式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50480" y="12949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右键单击需要转换的磁盘分区，实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区，从快捷菜单中选择“转换”命令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3490920" y="2629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M磁盘工具16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419720" cy="3271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71440" y="2286000"/>
            <a:ext cx="9118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分区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1.6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隐藏分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隐藏分区的操作为：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选中需要隐藏的分区，单击“分区”菜单中“高级”子菜单下的“隐藏分区”命令，在弹出的对话框中单击确认按钮即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让隐藏的分区显示出来，可参考上述步骤，即在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选中被隐藏的分区，单击“分区”菜单中“高级”子菜单下的“显示分区”命令，在弹出的对话框中单击确认按钮即可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硬盘备份工具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Norton Ghos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 action="ppaction://hlinksldjump"/>
              </a:rPr>
              <a:t>1.2.1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2" action="ppaction://hlinksldjump"/>
              </a:rPr>
              <a:t>界面简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 action="ppaction://hlinksldjump"/>
              </a:rPr>
              <a:t>1.2.2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4" action="ppaction://hlinksldjump"/>
              </a:rPr>
              <a:t>应用实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400800"/>
            <a:ext cx="114300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硬盘分区管理工具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tionMagic 8.0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磁盘分区知识及注意事项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创建新分区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3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整分区大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合并硬盘分区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换分区格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1.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藏分区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7238880" y="6400800"/>
            <a:ext cx="114300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2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简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407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是最常用的菜单，用于在本地电脑上对硬盘进行操作，包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盘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区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）三个子菜单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硬盘完全复制将硬盘内容备份成映像文件恢复硬盘内容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菜单包含三个选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Di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Im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Ima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e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菜单的命令用于检查复制的完整性，包括两个选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mage F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选项用于网络间的硬盘备份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使用并口将备份文件传送到其他硬盘上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ptio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选项命令用于设置程序参数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2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应用实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映像整个硬盘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计算机进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式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所在目录运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st.ex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程序后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K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2762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HOST3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657600" cy="211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14600" y="5562720"/>
            <a:ext cx="3352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62320" y="2367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HOST4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4052880" cy="3286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3720" y="525780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要进行映像的硬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67000" y="2352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HOST5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05320" cy="289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44197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映像文件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4880" y="3000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GHOST6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962160" cy="135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9880" y="5105520"/>
            <a:ext cx="5105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8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映像文件的压缩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0048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HOST7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267080" cy="3516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525780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映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50480" y="14479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映像硬盘分区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中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菜单下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Image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进入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界面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选中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硬盘，再选第一个分区，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K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提示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盘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下输入要保存的文件名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-d.gho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车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同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询问以什么方式来压缩映像文件，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st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会出现是否对此分区映像的提示，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E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开始映像。操作完成后，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e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回到最初界面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40736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还原硬盘映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重新启动进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环境，运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st.ex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从菜单栏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al→Partition→To Ima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使用映像文件恢复系统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打开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le name to load image from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选择还原的映像文件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H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选择要使用映像文件恢复的源分区或硬盘，单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程序询问是否确定要进行恢复，单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程序开始将映像文件恢复到指定分区或硬盘上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磁盘备份工具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inRescue 2000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 action="ppaction://hlinksldjump"/>
              </a:rPr>
              <a:t>1.3.1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2" action="ppaction://hlinksldjump"/>
              </a:rPr>
              <a:t>备份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 action="ppaction://hlinksldjump"/>
              </a:rPr>
              <a:t>1.3.2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4" action="ppaction://hlinksldjump"/>
              </a:rPr>
              <a:t>恢复文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5" action="ppaction://hlinksldjump"/>
              </a:rPr>
              <a:t>1.3.3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6" action="ppaction://hlinksldjump"/>
              </a:rPr>
              <a:t>其他功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6400800"/>
            <a:ext cx="114300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4336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winre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57640" cy="258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7400" y="4876920"/>
            <a:ext cx="4876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Rescue 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3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备份文件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19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要备份文件应选择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签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94336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winre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284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1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1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磁盘分区知识及注意事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50480" y="13716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磁盘分区概述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090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M磁盘工具" descr=""/>
          <p:cNvPicPr/>
          <p:nvPr/>
        </p:nvPicPr>
        <p:blipFill>
          <a:blip r:embed="rId1"/>
          <a:stretch/>
        </p:blipFill>
        <p:spPr>
          <a:xfrm>
            <a:off x="2600280" y="2090880"/>
            <a:ext cx="3943440" cy="267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9680" y="5181480"/>
            <a:ext cx="4953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 8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19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按缺省参数备份系统文件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标签中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如下图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3652920" y="2981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winre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2676600" cy="130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038480"/>
            <a:ext cx="251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次备份的名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43200" y="2790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inre4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819160" cy="1936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95480" y="5181480"/>
            <a:ext cx="335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备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1960" y="3000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winre5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828800" cy="156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5880" y="4267080"/>
            <a:ext cx="2895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备份完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0480" y="1142640"/>
            <a:ext cx="71946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更改备份文件的属性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 Backup Properties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备份文件的管理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备份文件属性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设置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备份系统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备份其他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选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14480" y="2414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winre6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3035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0" y="487692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改备份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14480" y="2414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inre7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33880" cy="2904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90920" y="49528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备份文件的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9072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inre9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286240" cy="2954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9680" y="4876920"/>
            <a:ext cx="441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ting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9072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winre10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829040" cy="269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952880"/>
            <a:ext cx="365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备份系统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90720" y="2433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winre13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2911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09680" y="48769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9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File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67200" y="2505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winre11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05200" cy="288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438280" y="502920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备份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194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备份设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栏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omation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2709720" y="2352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winre15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81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81080" y="5334120"/>
            <a:ext cx="518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1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tomation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3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恢复文件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081240" y="2666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winre16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15000" cy="2921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3720" y="50292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文件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274760"/>
            <a:ext cx="748332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般注意事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支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NT/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版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合并两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T/FAT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区命令后不能执行撤销操作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默认状况下关闭磁盘坏道的检查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非亚洲语言版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使用在亚洲语言版本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NT/2000/X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系统上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非在第一个硬盘上有至少一个主分区，否则，不能使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工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QB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给出警示提示用户需重新启动，使分区生效。单击“确定”按钮，分区创建结束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are Registry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Rescue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做任何一种备份时，都会另外拷贝一份以前的注册表，将其放置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目录下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Rescue Backup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永久备份文件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kette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磁盘备份恢复。如果是多卷软盘备份，先插入最后一张盘，然后再按提示插入第一张盘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iginal Registry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最初的注册表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Rescue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提供了另一种恢复备份文件的办法，就是选中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tractor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（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24360" y="3152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winre17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314520" cy="1412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335268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近的备份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76640" y="2714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winre18" descr=""/>
          <p:cNvPicPr/>
          <p:nvPr/>
        </p:nvPicPr>
        <p:blipFill>
          <a:blip r:embed="rId2"/>
          <a:stretch/>
        </p:blipFill>
        <p:spPr>
          <a:xfrm>
            <a:off x="3962520" y="2438280"/>
            <a:ext cx="3886200" cy="1989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05120" y="487692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解压缩文件的方法恢复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3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其他功能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19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压缩注册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3195720" y="2728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winre19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410440" cy="2751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525780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缩注册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81240" y="2657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winre20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267080" cy="2208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43000" y="3809880"/>
            <a:ext cx="3505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启动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81440" y="3005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winre21" descr=""/>
          <p:cNvPicPr/>
          <p:nvPr/>
        </p:nvPicPr>
        <p:blipFill>
          <a:blip r:embed="rId2"/>
          <a:stretch/>
        </p:blipFill>
        <p:spPr>
          <a:xfrm>
            <a:off x="5257800" y="2819520"/>
            <a:ext cx="2743200" cy="1469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24080" y="487692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软驱名称（取默认值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7194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急恢复与制作应急磁盘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主界面窗口中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ot Disk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卡如下图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winre20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267440" cy="2208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880" y="5029200"/>
            <a:ext cx="35053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4572000"/>
            <a:ext cx="350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启动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winre21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2743200" cy="1469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76720" y="5181480"/>
            <a:ext cx="533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软驱名称（取默认值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磁盘碎片整理工具—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VoptXP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 action="ppaction://hlinksldjump"/>
              </a:rPr>
              <a:t>1.4.1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2" action="ppaction://hlinksldjump"/>
              </a:rPr>
              <a:t>界面介绍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 action="ppaction://hlinksldjump"/>
              </a:rPr>
              <a:t>1.4.2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4" action="ppaction://hlinksldjump"/>
              </a:rPr>
              <a:t>应用实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6400800"/>
            <a:ext cx="114300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4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界面介绍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0480" y="1143000"/>
            <a:ext cx="7194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ptX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很简洁，上部主要由菜单栏、磁盘剩余空间统计、磁盘碎片率统计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工具按钮、详细数据区报告栏组成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3300480" y="2376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opt磁盘工具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243320" cy="3513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571440" y="2438280"/>
            <a:ext cx="911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8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opt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工具按钮的作用见表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2057400"/>
            <a:ext cx="2743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具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19320" y="2971800"/>
          <a:ext cx="693396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69339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4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应用实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磁盘检查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从开始菜单中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ptX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要整理其他驱动器，可以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vious disk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disk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按钮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启动磁盘检查命令。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下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heck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28960" y="2809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vopt磁盘工具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781360" cy="2317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4400" y="441972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856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vopt磁盘工具3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3733560" cy="3079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886200" y="487692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磁盘错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1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创建新分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开始菜单中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tionMagic 8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主界面见下图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M磁盘工具2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915080" cy="33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28640" y="1447920"/>
            <a:ext cx="9118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创建新的分区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磁盘碎片整理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ptX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后选择要整理的驱动器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ragment disk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开始整理文件碎片参见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3510000" y="3105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vopt磁盘工具4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43400" cy="1323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362320" y="480060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磁盘整理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优化大师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50480" y="1295280"/>
            <a:ext cx="7194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 action="ppaction://hlinksldjump"/>
              </a:rPr>
              <a:t>1.5.1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2" action="ppaction://hlinksldjump"/>
              </a:rPr>
              <a:t>查看系统信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3" action="ppaction://hlinksldjump"/>
              </a:rPr>
              <a:t>1.5.2 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Arial"/>
                <a:ea typeface="黑体"/>
                <a:hlinkClick r:id="rId4" action="ppaction://hlinksldjump"/>
              </a:rPr>
              <a:t>优化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6400800"/>
            <a:ext cx="114300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5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查看系统信息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19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看系统信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开始菜单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优化大师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2828880" y="2038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wy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4800600" cy="3830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495480" y="2438280"/>
            <a:ext cx="911880" cy="335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化大师主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19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更多信息”按钮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1" name="wy2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4781520" cy="2981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923160" y="2392200"/>
            <a:ext cx="549360" cy="400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4200" y="2209680"/>
            <a:ext cx="91188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核心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194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监测系统性能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nchmar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签，打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测试窗口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3100320" y="2495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wy3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4390920" cy="2784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885640" y="2666880"/>
            <a:ext cx="91188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监测系统性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20612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.5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优化系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194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优化系统开机速度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开机速度优化”标签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wy4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362480" cy="3497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95480" y="2895480"/>
            <a:ext cx="911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机速度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61760" y="838080"/>
            <a:ext cx="7194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优化磁盘缓存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磁盘缓存优化”标签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4" name="wy13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4562280" cy="3635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495480" y="2514600"/>
            <a:ext cx="911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化磁盘缓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194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优化文件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文件系统优化”标签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wy12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4496040" cy="3589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327000" y="2362320"/>
            <a:ext cx="9118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优化文件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7194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内存整理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“内存整理”按钮，即可打开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-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界面进行内存整理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0" name="wy15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4700880" cy="3081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327000" y="2666880"/>
            <a:ext cx="91188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存整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720612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50480" y="1294920"/>
            <a:ext cx="7194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  <a:ea typeface="宋体"/>
              </a:rPr>
              <a:t>Thank you very much!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2743920" y="2590920"/>
            <a:ext cx="3381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到此结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谢谢您的光临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endshow"/>
          </p:cNvPr>
          <p:cNvSpPr/>
          <p:nvPr/>
        </p:nvSpPr>
        <p:spPr>
          <a:xfrm>
            <a:off x="746172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6880" y="2128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M磁盘工具3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57800" cy="358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5181480"/>
            <a:ext cx="693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为新分区提供空间的其他现有分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33640" y="2314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M磁盘工具4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86480" cy="31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5181480"/>
            <a:ext cx="403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分区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33640" y="2314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M磁盘工具5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991040" cy="33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51055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分区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66960" y="2500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M磁盘工具6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310000" cy="273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62320" y="4876920"/>
            <a:ext cx="396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-6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“撤销”或“应用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458480" y="6402240"/>
            <a:ext cx="729360" cy="368280"/>
          </a:xfrm>
          <a:prstGeom prst="rect">
            <a:avLst/>
          </a:prstGeom>
          <a:solidFill>
            <a:srgbClr val="e7fffa"/>
          </a:solidFill>
          <a:ln cap="rnd" w="12600">
            <a:solidFill>
              <a:srgbClr val="339966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99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宋体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6:07:48Z</dcterms:modified>
  <cp:revision>102</cp:revision>
  <dc:subject/>
  <dc:title>Module 7: Designing a Multiple Domain Structure</dc:title>
</cp:coreProperties>
</file>